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AF1-675B-4726-A97F-97FCAB35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217-83AC-4BCD-9D77-021FE89C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69E-C474-4662-847C-7895C310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376-09DD-46F2-9067-A88F8D0F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AC22-BD28-4F37-A836-AB68A1E4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A8B-2D77-4F30-81A9-0D91F5FF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893D-A52D-4FD6-A6E2-67E6C90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6488-EC7B-42D7-ACD9-61081CED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DD7F-3099-4CBB-8BD5-E10F0756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DBD5-2E1D-45D4-8028-A1CD7DCE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E53A-2FEC-4F2A-BCDF-F819D74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835-69A4-4EB6-B6B2-7C3FC41D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1102-4A80-4002-ABEF-A2001FC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9C58-ADBD-4B1B-890A-BBB9276F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9718-BB0E-407E-82C5-C439A75B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6BCC-9805-4916-84E3-CE3EF7B6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F94-675B-4012-A761-9E585E37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699-FE38-4D02-8A11-CB6CED5B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8FE-0800-45A6-8A45-39F3BAE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550-1BEE-47A6-94FF-8A332DE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873-B6A0-4F76-9772-A9E3F8EB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159-8C77-4616-9604-3DBB761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6BC-3CEF-44C8-8B80-78ED4083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ABA-4942-4D28-B39D-F3FE774E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70EC-4EFC-40EE-AC33-A1C99373B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35CC-86DF-4662-8BAC-D1F216300E3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6206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743040" y="1401840"/>
            <a:ext cx="72244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李冰像"/>
          <p:cNvPicPr/>
          <p:nvPr/>
        </p:nvPicPr>
        <p:blipFill>
          <a:blip r:embed="rId2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067280" y="378936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这是谁？他做了什么贡献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067280" y="549360"/>
            <a:ext cx="489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始知李太守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伯禹亦不如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5508720" y="189000"/>
            <a:ext cx="3456000" cy="1512720"/>
          </a:xfrm>
          <a:prstGeom prst="wedgeRoundRectCallout">
            <a:avLst>
              <a:gd name="adj1" fmla="val -44120"/>
              <a:gd name="adj2" fmla="val 70041"/>
              <a:gd name="adj3" fmla="val 16667"/>
            </a:avLst>
          </a:prstGeom>
          <a:solidFill>
            <a:srgbClr val="66ff33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92760" y="549360"/>
            <a:ext cx="31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看谁答的好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84360" y="1052640"/>
            <a:ext cx="7200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阅读材料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始知李太守，伯禹也不如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请回答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材料中的两个人物分别是谁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他们在历史上共同的贡献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他们是在破坏大自然吗？我们应该如何对待大自然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0"/>
          <p:cNvSpPr/>
          <p:nvPr/>
        </p:nvSpPr>
        <p:spPr>
          <a:xfrm>
            <a:off x="2843280" y="2565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劳动工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84328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耕作方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755640" y="2637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铁农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755640" y="3500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牛   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2124000" y="2924280"/>
            <a:ext cx="762120" cy="0"/>
          </a:xfrm>
          <a:prstGeom prst="line">
            <a:avLst/>
          </a:prstGeom>
          <a:ln w="1908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050920" y="3789360"/>
            <a:ext cx="838440" cy="0"/>
          </a:xfrm>
          <a:prstGeom prst="line">
            <a:avLst/>
          </a:prstGeom>
          <a:ln w="1908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6156360" y="2492280"/>
            <a:ext cx="216000" cy="2592360"/>
          </a:xfrm>
          <a:custGeom>
            <a:avLst/>
            <a:gdLst>
              <a:gd name="textAreaLeft" fmla="*/ 0 w 216000"/>
              <a:gd name="textAreaRight" fmla="*/ 7812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45"/>
                </a:lnTo>
                <a:cubicBezTo>
                  <a:pt x="10800" y="10145"/>
                  <a:pt x="16200" y="11045"/>
                  <a:pt x="21600" y="11045"/>
                </a:cubicBezTo>
                <a:cubicBezTo>
                  <a:pt x="16200" y="11045"/>
                  <a:pt x="10800" y="11945"/>
                  <a:pt x="10800" y="128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6659640" y="2637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土地利用率和农作物产量显著提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84360" y="436572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都江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2124000" y="4653000"/>
            <a:ext cx="762120" cy="0"/>
          </a:xfrm>
          <a:prstGeom prst="line">
            <a:avLst/>
          </a:prstGeom>
          <a:ln w="1908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2843280" y="4437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行楷"/>
              </a:rPr>
              <a:t>水利设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80880" y="0"/>
            <a:ext cx="7315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小结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	</a:t>
            </a:r>
            <a:r>
              <a:rPr b="0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  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华文行楷"/>
              </a:rPr>
              <a:t>农业的发展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5" name="组合 19"/>
          <p:cNvGrpSpPr/>
          <p:nvPr/>
        </p:nvGrpSpPr>
        <p:grpSpPr>
          <a:xfrm>
            <a:off x="6227640" y="4869000"/>
            <a:ext cx="2659320" cy="1684080"/>
            <a:chOff x="6227640" y="4869000"/>
            <a:chExt cx="2659320" cy="1684080"/>
          </a:xfrm>
        </p:grpSpPr>
        <p:sp>
          <p:nvSpPr>
            <p:cNvPr id="146" name="Rectangle 19"/>
            <p:cNvSpPr/>
            <p:nvPr/>
          </p:nvSpPr>
          <p:spPr>
            <a:xfrm>
              <a:off x="6372000" y="4869000"/>
              <a:ext cx="2483280" cy="168408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6227640" y="5157720"/>
              <a:ext cx="265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大量的荒地被开垦出来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8" name="AutoShape 33"/>
          <p:cNvSpPr/>
          <p:nvPr/>
        </p:nvSpPr>
        <p:spPr>
          <a:xfrm>
            <a:off x="8459640" y="3716280"/>
            <a:ext cx="505080" cy="1744560"/>
          </a:xfrm>
          <a:custGeom>
            <a:avLst/>
            <a:gdLst>
              <a:gd name="textAreaLeft" fmla="*/ 67680 w 505080"/>
              <a:gd name="textAreaRight" fmla="*/ 437400 w 505080"/>
              <a:gd name="textAreaTop" fmla="*/ 305280 h 1744560"/>
              <a:gd name="textAreaBottom" fmla="*/ 1265040 h 17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102619"/>
                <a:lnTo>
                  <a:pt x="9645" y="20804"/>
                </a:lnTo>
                <a:lnTo>
                  <a:pt x="0" y="17280"/>
                </a:lnTo>
                <a:lnTo>
                  <a:pt x="9645" y="12164"/>
                </a:lnTo>
                <a:lnTo>
                  <a:pt x="9645" y="14324"/>
                </a:lnTo>
                <a:arcTo wR="21600" hR="7560" stAng="2102619" swAng="-174518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4714920" y="25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的改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4714920" y="350028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的改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4714920" y="4500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Comic Sans MS"/>
              </a:rPr>
              <a:t>的修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443160" y="1557360"/>
            <a:ext cx="1277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农业大变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828800" y="15238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736640" y="21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293200" y="138600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铁农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311800" y="1447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春秋出现，战国推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25324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牛耕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387400" y="1905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至迟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春秋末年已使用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战国时进一步推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34432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兴修水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484600" y="27432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战国时期，秦蜀郡太守李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岷江中游修都江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 flipH="1" rot="10808400">
            <a:off x="837000" y="3504960"/>
            <a:ext cx="677880" cy="530280"/>
          </a:xfrm>
          <a:custGeom>
            <a:avLst/>
            <a:gdLst>
              <a:gd name="textAreaLeft" fmla="*/ 389520 w 677880"/>
              <a:gd name="textAreaRight" fmla="*/ 571680 w 677880"/>
              <a:gd name="textAreaTop" fmla="*/ 71280 h 530280"/>
              <a:gd name="textAreaBottom" fmla="*/ 22680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820960" y="3581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土地利用率和农作物产量显著提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 flipV="1">
            <a:off x="1295280" y="4267080"/>
            <a:ext cx="693720" cy="533520"/>
          </a:xfrm>
          <a:custGeom>
            <a:avLst/>
            <a:gdLst>
              <a:gd name="textAreaLeft" fmla="*/ 399240 w 693720"/>
              <a:gd name="textAreaRight" fmla="*/ 585360 w 69372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704320" y="434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生产关系大变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209680" y="1905120"/>
            <a:ext cx="5867640" cy="0"/>
          </a:xfrm>
          <a:prstGeom prst="line">
            <a:avLst/>
          </a:prstGeom>
          <a:ln w="9360">
            <a:solidFill>
              <a:srgbClr val="7979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209680" y="2743200"/>
            <a:ext cx="5791320" cy="0"/>
          </a:xfrm>
          <a:prstGeom prst="line">
            <a:avLst/>
          </a:prstGeom>
          <a:ln w="9360">
            <a:solidFill>
              <a:srgbClr val="7979a5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5181480" y="41911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66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542412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公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10064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私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5424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奴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713556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农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5368320" y="563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奴隶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135560" y="563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地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6248520" y="4267080"/>
            <a:ext cx="609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6248520" y="5029200"/>
            <a:ext cx="609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381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>
            <a:off x="7391520" y="4495680"/>
            <a:ext cx="0" cy="304920"/>
          </a:xfrm>
          <a:prstGeom prst="line">
            <a:avLst/>
          </a:prstGeom>
          <a:ln w="381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5715000" y="518148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AutoShape 32"/>
          <p:cNvSpPr/>
          <p:nvPr/>
        </p:nvSpPr>
        <p:spPr>
          <a:xfrm rot="10800000">
            <a:off x="4038120" y="533412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AutoShape 33"/>
          <p:cNvSpPr/>
          <p:nvPr/>
        </p:nvSpPr>
        <p:spPr>
          <a:xfrm>
            <a:off x="5029200" y="51055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Line 34"/>
          <p:cNvSpPr/>
          <p:nvPr/>
        </p:nvSpPr>
        <p:spPr>
          <a:xfrm>
            <a:off x="5486400" y="52578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1102680" y="5214960"/>
            <a:ext cx="213156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各国掀起变法运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248520" y="5867280"/>
            <a:ext cx="60948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1332000" y="76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琥珀"/>
                <a:ea typeface="华文琥珀"/>
              </a:rPr>
              <a:t>背 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3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5"/>
          <p:cNvPicPr/>
          <p:nvPr/>
        </p:nvPicPr>
        <p:blipFill>
          <a:blip r:embed="rId3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457200" y="457200"/>
            <a:ext cx="83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商鞅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8001000" y="380880"/>
            <a:ext cx="838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  <a:ea typeface="华文行楷"/>
              </a:rPr>
              <a:t>秦孝公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舌战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264360" y="0"/>
            <a:ext cx="287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治世不一道</a:t>
            </a:r>
            <a:r>
              <a:rPr b="1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变国不法古</a:t>
            </a:r>
            <a:r>
              <a:rPr b="1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4f1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1052640"/>
            <a:ext cx="381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国家承认土地私有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允许自由买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3276720" y="1844640"/>
            <a:ext cx="79200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02400" y="336384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奖励耕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02400" y="516420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建立县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924360" y="1557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建立封建土地所有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2195640" y="306864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268360" y="278136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奖励耕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340000" y="407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奖励军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3995640" y="306864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4140360" y="4365720"/>
            <a:ext cx="50292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500720" y="2781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经济发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500720" y="37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军队战斗力增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6732720" y="2421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国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6156360" y="306864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>
            <a:off x="6084720" y="436572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6732720" y="3716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兵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124000" y="52293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由国君派官吏治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5580000" y="5516640"/>
            <a:ext cx="57636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6084720" y="501336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加强中央集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>
            <a:off x="7451640" y="1268280"/>
            <a:ext cx="73080" cy="4465800"/>
          </a:xfrm>
          <a:custGeom>
            <a:avLst/>
            <a:gdLst>
              <a:gd name="textAreaLeft" fmla="*/ 0 w 73080"/>
              <a:gd name="textAreaRight" fmla="*/ 26280 w 73080"/>
              <a:gd name="textAreaTop" fmla="*/ 116280 h 4465800"/>
              <a:gd name="textAreaBottom" fmla="*/ 434952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7596360" y="1341360"/>
            <a:ext cx="140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确立封建制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为统一全国奠定了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95280" y="333360"/>
            <a:ext cx="8353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阅读思考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治世不一道，便国不法古。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请回答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该句话出自谁之口？他在为什么事找依据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说话者得到了谁的赏识？最终命运如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以他为镜，我们应该做一个什么样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403280" y="2276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（商鞅，变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11280" y="36338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（秦孝公，被车裂而死，但名垂青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84360" y="5059440"/>
            <a:ext cx="79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（顺应时代潮流，不因循守旧，敢于挑战保守，勇于改革创新，为国家与民族利益而牺牲奉献的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95280" y="24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力提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190800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05928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私田出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42764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508720" y="20606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封建剥削方式出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6732720" y="270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73272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变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7885080" y="270828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7812000" y="2276640"/>
            <a:ext cx="95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封建制度确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7" name="Picture 11" descr="it8"/>
          <p:cNvPicPr/>
          <p:nvPr/>
        </p:nvPicPr>
        <p:blipFill>
          <a:blip r:embed="rId2"/>
          <a:stretch/>
        </p:blipFill>
        <p:spPr>
          <a:xfrm>
            <a:off x="6659640" y="4437000"/>
            <a:ext cx="1547640" cy="172728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2"/>
          <p:cNvSpPr txBox="1"/>
          <p:nvPr/>
        </p:nvSpPr>
        <p:spPr>
          <a:xfrm>
            <a:off x="395280" y="620640"/>
            <a:ext cx="151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小结：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u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6"/>
          <p:cNvPicPr/>
          <p:nvPr/>
        </p:nvPicPr>
        <p:blipFill>
          <a:blip r:embed="rId2"/>
          <a:stretch/>
        </p:blipFill>
        <p:spPr>
          <a:xfrm>
            <a:off x="0" y="0"/>
            <a:ext cx="37670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石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4" descr="10"/>
          <p:cNvPicPr/>
          <p:nvPr/>
        </p:nvPicPr>
        <p:blipFill>
          <a:blip r:embed="rId3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338040" y="26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Picture 8" descr="GDZCD1010H"/>
          <p:cNvPicPr/>
          <p:nvPr/>
        </p:nvPicPr>
        <p:blipFill>
          <a:blip r:embed="rId4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7" descr="sd7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28" descr="sd9"/>
          <p:cNvPicPr/>
          <p:nvPr/>
        </p:nvPicPr>
        <p:blipFill>
          <a:blip r:embed="rId3"/>
          <a:stretch/>
        </p:blipFill>
        <p:spPr>
          <a:xfrm>
            <a:off x="472428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33"/>
          <p:cNvSpPr/>
          <p:nvPr/>
        </p:nvSpPr>
        <p:spPr>
          <a:xfrm>
            <a:off x="760932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铜铲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1034"/>
          <p:cNvSpPr/>
          <p:nvPr/>
        </p:nvSpPr>
        <p:spPr>
          <a:xfrm>
            <a:off x="0" y="3200400"/>
            <a:ext cx="99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铜镢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1035"/>
          <p:cNvSpPr/>
          <p:nvPr/>
        </p:nvSpPr>
        <p:spPr>
          <a:xfrm>
            <a:off x="7467480" y="1143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商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1036"/>
          <p:cNvSpPr/>
          <p:nvPr/>
        </p:nvSpPr>
        <p:spPr>
          <a:xfrm>
            <a:off x="342720" y="542592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行楷"/>
              </a:rPr>
              <a:t>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铁农具"/>
          <p:cNvPicPr/>
          <p:nvPr/>
        </p:nvPicPr>
        <p:blipFill>
          <a:blip r:embed="rId1"/>
          <a:stretch/>
        </p:blipFill>
        <p:spPr>
          <a:xfrm>
            <a:off x="3132000" y="2949480"/>
            <a:ext cx="6012000" cy="390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GDZCD4020a"/>
          <p:cNvPicPr/>
          <p:nvPr/>
        </p:nvPicPr>
        <p:blipFill>
          <a:blip r:embed="rId2"/>
          <a:stretch/>
        </p:blipFill>
        <p:spPr>
          <a:xfrm>
            <a:off x="0" y="31680"/>
            <a:ext cx="4500720" cy="3181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2054880" y="3933720"/>
            <a:ext cx="667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战国铁农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862880" y="476280"/>
            <a:ext cx="66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春秋铁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79280" y="104940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行楷"/>
              </a:rPr>
              <a:t>我国古代农业生产工具的更替过程如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24000" y="18414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石器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青铜器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铁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25621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琥珀"/>
              </a:rPr>
              <a:t>铁农具为什么能较快的推广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4000" y="3429000"/>
            <a:ext cx="619272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、比石农具和青铜农具有优越性，具有硬度大、不易磨损等优点，，更符合生产发展需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琥珀"/>
                <a:ea typeface="华文琥珀"/>
              </a:rPr>
              <a:t>、当时冶铁技术进步，能生产出大量的铁农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Picture 10" descr="写字"/>
          <p:cNvPicPr/>
          <p:nvPr/>
        </p:nvPicPr>
        <p:blipFill>
          <a:blip r:embed="rId2"/>
          <a:stretch/>
        </p:blipFill>
        <p:spPr>
          <a:xfrm>
            <a:off x="7093080" y="4437000"/>
            <a:ext cx="16556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3"/>
          <p:cNvGrpSpPr/>
          <p:nvPr/>
        </p:nvGrpSpPr>
        <p:grpSpPr>
          <a:xfrm>
            <a:off x="5759280" y="0"/>
            <a:ext cx="3564000" cy="981000"/>
            <a:chOff x="5759280" y="0"/>
            <a:chExt cx="3564000" cy="981000"/>
          </a:xfrm>
        </p:grpSpPr>
        <p:sp>
          <p:nvSpPr>
            <p:cNvPr id="105" name="AutoShape 12"/>
            <p:cNvSpPr/>
            <p:nvPr/>
          </p:nvSpPr>
          <p:spPr>
            <a:xfrm>
              <a:off x="5759280" y="0"/>
              <a:ext cx="3384720" cy="981000"/>
            </a:xfrm>
            <a:custGeom>
              <a:avLst/>
              <a:gdLst>
                <a:gd name="textAreaLeft" fmla="*/ 0 w 3384720"/>
                <a:gd name="textAreaRight" fmla="*/ 3385080 w 3384720"/>
                <a:gd name="textAreaTop" fmla="*/ 127080 h 981000"/>
                <a:gd name="textAreaBottom" fmla="*/ 85392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6012000" y="189000"/>
              <a:ext cx="33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黑体"/>
                </a:rPr>
                <a:t>你知道答案吗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Img0074_small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牛"/>
          <p:cNvPicPr/>
          <p:nvPr/>
        </p:nvPicPr>
        <p:blipFill>
          <a:blip r:embed="rId3"/>
          <a:srcRect l="22227" t="0" r="1590" b="28115"/>
          <a:stretch/>
        </p:blipFill>
        <p:spPr>
          <a:xfrm>
            <a:off x="395280" y="139680"/>
            <a:ext cx="6615000" cy="32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face5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457200" y="3429000"/>
            <a:ext cx="6553080" cy="3333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668360" y="2133720"/>
            <a:ext cx="789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牛  耕  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5940360" y="189000"/>
            <a:ext cx="2808360" cy="1439640"/>
          </a:xfrm>
          <a:prstGeom prst="cloudCallout">
            <a:avLst>
              <a:gd name="adj1" fmla="val -46324"/>
              <a:gd name="adj2" fmla="val 108101"/>
            </a:avLst>
          </a:prstGeom>
          <a:solidFill>
            <a:srgbClr val="ffff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说说看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6920" y="249228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华文琥珀"/>
                <a:ea typeface="华文琥珀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说牛耕是我国农业发展史上的革命，这革命主要是指哪方面？（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灌溉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施肥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动力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播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946920" y="30034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  <a:ea typeface="华文行楷"/>
              </a:rPr>
              <a:t>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2"/>
          <a:srcRect l="0" t="0" r="-99" b="1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7"/>
          <p:cNvSpPr/>
          <p:nvPr/>
        </p:nvSpPr>
        <p:spPr>
          <a:xfrm>
            <a:off x="3048120" y="990720"/>
            <a:ext cx="838080" cy="21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Times New Roman"/>
                <a:ea typeface="华文琥珀"/>
              </a:rPr>
              <a:t>分水堰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6477120" y="533520"/>
            <a:ext cx="2209680" cy="23619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086600" y="609480"/>
            <a:ext cx="106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分洪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flipH="1">
            <a:off x="-720" y="0"/>
            <a:ext cx="2057400" cy="2362320"/>
          </a:xfrm>
          <a:prstGeom prst="cloudCallout">
            <a:avLst>
              <a:gd name="adj1" fmla="val -56712"/>
              <a:gd name="adj2" fmla="val 70023"/>
            </a:avLst>
          </a:prstGeom>
          <a:solidFill>
            <a:srgbClr val="dc59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447920" y="281952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3520" y="0"/>
            <a:ext cx="91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灌溉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809880" y="5257800"/>
            <a:ext cx="2362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5257800" y="190512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2819520"/>
            <a:ext cx="10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内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962520" y="52578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岷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257800" y="190512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99"/>
                </a:solidFill>
                <a:latin typeface="Times New Roman"/>
                <a:ea typeface="华文琥珀"/>
              </a:rPr>
              <a:t>外江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_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8:02:21Z</dcterms:created>
  <dc:creator>Zhuyuancai</dc:creator>
  <dc:description/>
  <dc:language>en-US</dc:language>
  <cp:lastModifiedBy>微软用户</cp:lastModifiedBy>
  <dcterms:modified xsi:type="dcterms:W3CDTF">2011-09-22T00:45:19Z</dcterms:modified>
  <cp:revision>70</cp:revision>
  <dc:subject/>
  <dc:title>幻灯片 1</dc:title>
</cp:coreProperties>
</file>